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2.png" ContentType="image/png"/>
  <Override PartName="/ppt/media/image20.jpeg" ContentType="image/jpeg"/>
  <Override PartName="/ppt/media/image8.jpeg" ContentType="image/jpeg"/>
  <Override PartName="/ppt/media/image9.png" ContentType="image/png"/>
  <Override PartName="/ppt/media/image34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3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4DF-0D33-4DF5-A526-3E0D544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54D-F894-4165-ACB9-33862B8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9CB-7C48-4B4E-96B2-BF89D68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605-B099-4AB1-B110-185FBB0C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31E-AD0D-4680-B73B-1893781F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B0E-E490-45B4-8B8B-8384C44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FCA-A032-4B29-9880-F9E9877C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75C-DE77-49EC-9A87-AFE34E3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31C-622C-4D22-A37E-A917B3C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3F2-3D19-4B77-BC04-9C2589F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BC0-255E-49A8-9BCD-56875AE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8D5-247A-4DB6-A878-4FF795A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FC4-518E-4FD3-B68E-F141FB6E34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Chemical Basis of Lif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water molecule.gif"/>
          <p:cNvPicPr/>
          <p:nvPr/>
        </p:nvPicPr>
        <p:blipFill>
          <a:blip r:embed="rId1"/>
          <a:stretch/>
        </p:blipFill>
        <p:spPr>
          <a:xfrm>
            <a:off x="0" y="1676520"/>
            <a:ext cx="4576680" cy="518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Atom Model.gif"/>
          <p:cNvPicPr/>
          <p:nvPr/>
        </p:nvPicPr>
        <p:blipFill>
          <a:blip r:embed="rId2"/>
          <a:stretch/>
        </p:blipFill>
        <p:spPr>
          <a:xfrm>
            <a:off x="4579920" y="1676520"/>
            <a:ext cx="4611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5" descr="Hydrogen Bond.png"/>
          <p:cNvPicPr/>
          <p:nvPr/>
        </p:nvPicPr>
        <p:blipFill>
          <a:blip r:embed="rId1"/>
          <a:stretch/>
        </p:blipFill>
        <p:spPr>
          <a:xfrm>
            <a:off x="228600" y="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91120" y="-30600"/>
            <a:ext cx="4952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ar water creates special molecular attra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__ in one water molecule attracted to __________ in another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– but collectively strong when present in large numb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deo #4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0" descr="FirefoxScreenSnapz002"/>
          <p:cNvPicPr/>
          <p:nvPr/>
        </p:nvPicPr>
        <p:blipFill>
          <a:blip r:embed="rId2"/>
          <a:srcRect l="2052" t="1507" r="2052" b="1507"/>
          <a:stretch/>
        </p:blipFill>
        <p:spPr>
          <a:xfrm>
            <a:off x="1461960" y="4460760"/>
            <a:ext cx="1662120" cy="22892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2666880" y="4267080"/>
            <a:ext cx="6419520" cy="2494080"/>
            <a:chOff x="2666880" y="4267080"/>
            <a:chExt cx="6419520" cy="2494080"/>
          </a:xfrm>
        </p:grpSpPr>
        <p:pic>
          <p:nvPicPr>
            <p:cNvPr id="122" name="Picture 9" descr="FirefoxScreenSnapz001"/>
            <p:cNvPicPr/>
            <p:nvPr/>
          </p:nvPicPr>
          <p:blipFill>
            <a:blip r:embed="rId3"/>
            <a:srcRect l="720" t="1270" r="720" b="1270"/>
            <a:stretch/>
          </p:blipFill>
          <p:spPr>
            <a:xfrm>
              <a:off x="4195440" y="4289760"/>
              <a:ext cx="4686120" cy="24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16"/>
            <p:cNvSpPr/>
            <p:nvPr/>
          </p:nvSpPr>
          <p:spPr>
            <a:xfrm>
              <a:off x="2748600" y="4274280"/>
              <a:ext cx="1461960" cy="2486520"/>
            </a:xfrm>
            <a:custGeom>
              <a:avLst/>
              <a:gdLst>
                <a:gd name="textAreaLeft" fmla="*/ 0 w 1461960"/>
                <a:gd name="textAreaRight" fmla="*/ 1461960 w 1461960"/>
                <a:gd name="textAreaTop" fmla="*/ 0 h 2486520"/>
                <a:gd name="textAreaBottom" fmla="*/ 2486880 h 2486520"/>
              </a:gdLst>
              <a:ahLst/>
              <a:rect l="textAreaLeft" t="textAreaTop" r="textAreaRight" b="textAreaBottom"/>
              <a:pathLst>
                <a:path w="948" h="1763">
                  <a:moveTo>
                    <a:pt x="939" y="0"/>
                  </a:moveTo>
                  <a:lnTo>
                    <a:pt x="0" y="939"/>
                  </a:lnTo>
                  <a:cubicBezTo>
                    <a:pt x="0" y="1017"/>
                    <a:pt x="0" y="1095"/>
                    <a:pt x="0" y="1174"/>
                  </a:cubicBezTo>
                  <a:lnTo>
                    <a:pt x="948" y="1763"/>
                  </a:lnTo>
                </a:path>
              </a:pathLst>
            </a:custGeom>
            <a:solidFill>
              <a:srgbClr val="000000">
                <a:alpha val="43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>
              <a:off x="2666880" y="5598720"/>
              <a:ext cx="185040" cy="331560"/>
            </a:xfrm>
            <a:prstGeom prst="ellipse">
              <a:avLst/>
            </a:prstGeom>
            <a:solidFill>
              <a:srgbClr val="0040a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195440" y="4267080"/>
              <a:ext cx="4890960" cy="2494080"/>
            </a:xfrm>
            <a:custGeom>
              <a:avLst/>
              <a:gdLst>
                <a:gd name="textAreaLeft" fmla="*/ 0 w 4890960"/>
                <a:gd name="textAreaRight" fmla="*/ 4891320 w 4890960"/>
                <a:gd name="textAreaTop" fmla="*/ 0 h 2494080"/>
                <a:gd name="textAreaBottom" fmla="*/ 2494440 h 2494080"/>
              </a:gdLst>
              <a:ahLst/>
              <a:rect l="textAreaLeft" t="textAreaTop" r="textAreaRight" b="textAreaBottom"/>
              <a:pathLst>
                <a:path w="3171" h="1768">
                  <a:moveTo>
                    <a:pt x="0" y="0"/>
                  </a:moveTo>
                  <a:lnTo>
                    <a:pt x="3171" y="0"/>
                  </a:lnTo>
                  <a:lnTo>
                    <a:pt x="3171" y="1768"/>
                  </a:lnTo>
                  <a:lnTo>
                    <a:pt x="5" y="1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144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pecial properties of wa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53316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water is sticky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rface ten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 (Video #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molecules dissolve in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 (why?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 as 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e floats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stores 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tle change in tem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so swea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Content Placeholder 4" descr="underwater glacier.jpg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295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hesion and Adhe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ing betwee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molecules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is ‘sticky’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inking str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ing betwee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molecules &amp; other substances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‘climbing’ pap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3" descr="water strider.jpg"/>
          <p:cNvPicPr/>
          <p:nvPr/>
        </p:nvPicPr>
        <p:blipFill>
          <a:blip r:embed="rId1"/>
          <a:stretch/>
        </p:blipFill>
        <p:spPr>
          <a:xfrm>
            <a:off x="6629400" y="0"/>
            <a:ext cx="2486160" cy="220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eniscus.jpg"/>
          <p:cNvPicPr/>
          <p:nvPr/>
        </p:nvPicPr>
        <p:blipFill>
          <a:blip r:embed="rId2"/>
          <a:stretch/>
        </p:blipFill>
        <p:spPr>
          <a:xfrm>
            <a:off x="4343400" y="3809880"/>
            <a:ext cx="25401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xylem and phloem.jpg"/>
          <p:cNvPicPr/>
          <p:nvPr/>
        </p:nvPicPr>
        <p:blipFill>
          <a:blip r:embed="rId1"/>
          <a:stretch/>
        </p:blipFill>
        <p:spPr>
          <a:xfrm>
            <a:off x="0" y="152280"/>
            <a:ext cx="3944880" cy="3206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ow does H2O get to the top of tree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3" descr="Transpiration tree.jpg"/>
          <p:cNvPicPr/>
          <p:nvPr/>
        </p:nvPicPr>
        <p:blipFill>
          <a:blip r:embed="rId2"/>
          <a:stretch/>
        </p:blipFill>
        <p:spPr>
          <a:xfrm>
            <a:off x="4746600" y="685800"/>
            <a:ext cx="4397400" cy="617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xylem and phloem 2.jpg"/>
          <p:cNvPicPr/>
          <p:nvPr/>
        </p:nvPicPr>
        <p:blipFill>
          <a:blip r:embed="rId3"/>
          <a:stretch/>
        </p:blipFill>
        <p:spPr>
          <a:xfrm>
            <a:off x="152280" y="3429000"/>
            <a:ext cx="3535560" cy="2666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0" y="6095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s #6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is a powerful solv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ity make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a goo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ar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 molecules surround the + and – 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sol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_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3" descr="Water dissolve NaCl.png"/>
          <p:cNvPicPr/>
          <p:nvPr/>
        </p:nvPicPr>
        <p:blipFill>
          <a:blip r:embed="rId1"/>
          <a:stretch/>
        </p:blipFill>
        <p:spPr>
          <a:xfrm>
            <a:off x="304920" y="2666880"/>
            <a:ext cx="4322520" cy="399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Water dissolve protein.png"/>
          <p:cNvPicPr/>
          <p:nvPr/>
        </p:nvPicPr>
        <p:blipFill>
          <a:blip r:embed="rId2"/>
          <a:stretch/>
        </p:blipFill>
        <p:spPr>
          <a:xfrm>
            <a:off x="5105520" y="2666880"/>
            <a:ext cx="4022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 things dissolve in wat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32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____________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have attraction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 or nonpo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#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Content Placeholder 4" descr="Water dissolve.wmf"/>
          <p:cNvPicPr/>
          <p:nvPr/>
        </p:nvPicPr>
        <p:blipFill>
          <a:blip r:embed="rId1"/>
          <a:stretch/>
        </p:blipFill>
        <p:spPr>
          <a:xfrm>
            <a:off x="4038480" y="1219320"/>
            <a:ext cx="5145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 don’t dissolv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811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_____________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that do not have an attraction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ar or nonpo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4" descr="fat (molecular).png"/>
          <p:cNvPicPr/>
          <p:nvPr/>
        </p:nvPicPr>
        <p:blipFill>
          <a:blip r:embed="rId1"/>
          <a:stretch/>
        </p:blipFill>
        <p:spPr>
          <a:xfrm>
            <a:off x="0" y="2057400"/>
            <a:ext cx="5803920" cy="358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6765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 (triglycer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685800" y="-152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al case of 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762120"/>
            <a:ext cx="5257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, substances become more dense when they are solid.....not water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 bonds form a cryst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Structure of ice.png"/>
          <p:cNvPicPr/>
          <p:nvPr/>
        </p:nvPicPr>
        <p:blipFill>
          <a:blip r:embed="rId1"/>
          <a:stretch/>
        </p:blipFill>
        <p:spPr>
          <a:xfrm>
            <a:off x="228600" y="3429000"/>
            <a:ext cx="4118040" cy="32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molecules of solid liquid gas.gif"/>
          <p:cNvPicPr/>
          <p:nvPr/>
        </p:nvPicPr>
        <p:blipFill>
          <a:blip r:embed="rId2"/>
          <a:stretch/>
        </p:blipFill>
        <p:spPr>
          <a:xfrm>
            <a:off x="5754600" y="1219320"/>
            <a:ext cx="3389400" cy="56386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867280" y="609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ual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e Floa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Content Placeholder 3" descr="Hydrogen bonding in ice.bmp"/>
          <p:cNvPicPr/>
          <p:nvPr/>
        </p:nvPicPr>
        <p:blipFill>
          <a:blip r:embed="rId1"/>
          <a:stretch/>
        </p:blipFill>
        <p:spPr>
          <a:xfrm>
            <a:off x="914400" y="914400"/>
            <a:ext cx="7640640" cy="3581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5943600" y="3581280"/>
            <a:ext cx="251460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43000" y="3581280"/>
            <a:ext cx="205740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981080" y="5029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WHY ICE FLOA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rozen Lake.jpg"/>
          <p:cNvPicPr/>
          <p:nvPr/>
        </p:nvPicPr>
        <p:blipFill>
          <a:blip r:embed="rId1"/>
          <a:stretch/>
        </p:blipFill>
        <p:spPr>
          <a:xfrm>
            <a:off x="0" y="685800"/>
            <a:ext cx="3836880" cy="2508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is “ice floats”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520" y="2362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ceans &amp; lakes don’t freeze sol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e on surface insulates water be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lows life to survive wi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ice sank, ponds, lakes, and oceans could freeze sol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sh, plants, etc. would be trapped and exposed above 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summer, only top of lake would th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......isn’t this Biolog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Cellular Respiration Pic.jpg"/>
          <p:cNvPicPr/>
          <p:nvPr/>
        </p:nvPicPr>
        <p:blipFill>
          <a:blip r:embed="rId1"/>
          <a:stretch/>
        </p:blipFill>
        <p:spPr>
          <a:xfrm>
            <a:off x="887400" y="1066680"/>
            <a:ext cx="757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fic he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6091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 resists changes in tempera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s a lot to heat it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s a lot to cool it d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____within oceans and within bod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 moderates temp. on Ear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Picture 3" descr="Earth.bmp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3" descr="Heat of Vaporization.png"/>
          <p:cNvPicPr/>
          <p:nvPr/>
        </p:nvPicPr>
        <p:blipFill>
          <a:blip r:embed="rId1"/>
          <a:stretch/>
        </p:blipFill>
        <p:spPr>
          <a:xfrm>
            <a:off x="909720" y="152280"/>
            <a:ext cx="8310600" cy="556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ater cools!  (Swea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652920" y="685800"/>
            <a:ext cx="457200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Sweating pic.jpg"/>
          <p:cNvPicPr/>
          <p:nvPr/>
        </p:nvPicPr>
        <p:blipFill>
          <a:blip r:embed="rId2"/>
          <a:stretch/>
        </p:blipFill>
        <p:spPr>
          <a:xfrm>
            <a:off x="0" y="3755880"/>
            <a:ext cx="1981080" cy="310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Sweating pic 2.jpg"/>
          <p:cNvPicPr/>
          <p:nvPr/>
        </p:nvPicPr>
        <p:blipFill>
          <a:blip r:embed="rId3"/>
          <a:stretch/>
        </p:blipFill>
        <p:spPr>
          <a:xfrm>
            <a:off x="5060880" y="4743360"/>
            <a:ext cx="41594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alence Electr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Valence Electrons 1.png"/>
          <p:cNvPicPr/>
          <p:nvPr/>
        </p:nvPicPr>
        <p:blipFill>
          <a:blip r:embed="rId1"/>
          <a:stretch/>
        </p:blipFill>
        <p:spPr>
          <a:xfrm>
            <a:off x="380880" y="1371600"/>
            <a:ext cx="3310200" cy="3376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Valence Electrons 2.png"/>
          <p:cNvPicPr/>
          <p:nvPr/>
        </p:nvPicPr>
        <p:blipFill>
          <a:blip r:embed="rId2"/>
          <a:stretch/>
        </p:blipFill>
        <p:spPr>
          <a:xfrm>
            <a:off x="5105520" y="1447920"/>
            <a:ext cx="3236760" cy="33033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143000" y="525780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atom wants to add electrons?  Which atom wants to lose electr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Isotopes.gif"/>
          <p:cNvPicPr/>
          <p:nvPr/>
        </p:nvPicPr>
        <p:blipFill>
          <a:blip r:embed="rId1"/>
          <a:stretch/>
        </p:blipFill>
        <p:spPr>
          <a:xfrm>
            <a:off x="0" y="1066680"/>
            <a:ext cx="5943600" cy="5181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5943600" y="121932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#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#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ame chem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...different # neutrons means # atomic ma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that use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ids &amp; B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56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ecides if a solution is acidic, basic, or neutra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&gt;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acid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&lt;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basic (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alkalin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=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, the solution is neutr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H sca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mber to determine acid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 (acid)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7 (neutral)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14 (base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720" y="-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pH Scal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Content Placeholder 3" descr="pH scale.jpg"/>
          <p:cNvPicPr/>
          <p:nvPr/>
        </p:nvPicPr>
        <p:blipFill>
          <a:blip r:embed="rId1"/>
          <a:stretch/>
        </p:blipFill>
        <p:spPr>
          <a:xfrm>
            <a:off x="0" y="0"/>
            <a:ext cx="6400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ff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H of cells must be kept around 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H affects shape of molecu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hape of molecules affect fun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Buffer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help ________________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servoir of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en 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 fa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bs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en 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 ri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bonic acid buffer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599840"/>
            <a:ext cx="2438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5" name="Straight Arrow Connector 4"/>
          <p:cNvCxnSpPr/>
          <p:nvPr/>
        </p:nvCxnSpPr>
        <p:spPr>
          <a:xfrm>
            <a:off x="3048120" y="1752120"/>
            <a:ext cx="7624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traight Arrow Connector 6"/>
          <p:cNvCxnSpPr/>
          <p:nvPr/>
        </p:nvCxnSpPr>
        <p:spPr>
          <a:xfrm flipH="1" flipV="1">
            <a:off x="2971440" y="1980360"/>
            <a:ext cx="838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7" name="Straight Arrow Connector 8"/>
          <p:cNvCxnSpPr/>
          <p:nvPr/>
        </p:nvCxnSpPr>
        <p:spPr>
          <a:xfrm>
            <a:off x="5714640" y="175212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8" name="Straight Arrow Connector 9"/>
          <p:cNvCxnSpPr/>
          <p:nvPr/>
        </p:nvCxnSpPr>
        <p:spPr>
          <a:xfrm flipH="1" flipV="1">
            <a:off x="5637960" y="1980360"/>
            <a:ext cx="839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9" name="Content Placeholder 2"/>
          <p:cNvSpPr/>
          <p:nvPr/>
        </p:nvSpPr>
        <p:spPr>
          <a:xfrm>
            <a:off x="4114800" y="160020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6324480" y="1523880"/>
            <a:ext cx="2438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+ 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3809880" y="22860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6705720" y="2246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6" descr="Breathing.jpg"/>
          <p:cNvPicPr/>
          <p:nvPr/>
        </p:nvPicPr>
        <p:blipFill>
          <a:blip r:embed="rId1"/>
          <a:stretch/>
        </p:blipFill>
        <p:spPr>
          <a:xfrm>
            <a:off x="0" y="3048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1026" descr="02_02"/>
          <p:cNvPicPr/>
          <p:nvPr/>
        </p:nvPicPr>
        <p:blipFill>
          <a:blip r:embed="rId1"/>
          <a:srcRect l="0" t="4504" r="0" b="6000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7"/>
          <p:cNvSpPr/>
          <p:nvPr/>
        </p:nvSpPr>
        <p:spPr>
          <a:xfrm>
            <a:off x="457200" y="6351480"/>
            <a:ext cx="121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3352680" y="6324480"/>
            <a:ext cx="145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29"/>
          <p:cNvSpPr/>
          <p:nvPr/>
        </p:nvSpPr>
        <p:spPr>
          <a:xfrm>
            <a:off x="5792760" y="6427800"/>
            <a:ext cx="152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030"/>
          <p:cNvSpPr/>
          <p:nvPr/>
        </p:nvSpPr>
        <p:spPr>
          <a:xfrm>
            <a:off x="3505320" y="1143000"/>
            <a:ext cx="191772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Hydro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pr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electr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031"/>
          <p:cNvSpPr/>
          <p:nvPr/>
        </p:nvSpPr>
        <p:spPr>
          <a:xfrm>
            <a:off x="3657600" y="3657600"/>
            <a:ext cx="183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Oxy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41"/>
          <p:cNvSpPr/>
          <p:nvPr/>
        </p:nvSpPr>
        <p:spPr>
          <a:xfrm>
            <a:off x="1989000" y="6410160"/>
            <a:ext cx="17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42"/>
          <p:cNvSpPr/>
          <p:nvPr/>
        </p:nvSpPr>
        <p:spPr>
          <a:xfrm>
            <a:off x="5149800" y="6410160"/>
            <a:ext cx="16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45"/>
          <p:cNvSpPr/>
          <p:nvPr/>
        </p:nvSpPr>
        <p:spPr>
          <a:xfrm>
            <a:off x="7292880" y="6410160"/>
            <a:ext cx="16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0" y="152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l matter is made of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32" descr="periodic-table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8" name="TextBox 3"/>
          <p:cNvSpPr/>
          <p:nvPr/>
        </p:nvSpPr>
        <p:spPr>
          <a:xfrm>
            <a:off x="380880" y="4200480"/>
            <a:ext cx="8534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FFERENT TYPES OF ATOMS ARE CALL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4920" y="4952880"/>
            <a:ext cx="85341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FFERENT TYPES OF ELEMENTS COMBINED TOGETHER ARE CALL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320" y="75960"/>
            <a:ext cx="90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though there are 92 natural ele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6% of the mass of all organisms are made up of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280" y="4038480"/>
            <a:ext cx="89917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ther 4%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lcium (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sphorus 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assium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gnesium (M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pounds are held together by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___________________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Ionic bond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_____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__________________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Ionic Bond.gif"/>
          <p:cNvPicPr/>
          <p:nvPr/>
        </p:nvPicPr>
        <p:blipFill>
          <a:blip r:embed="rId1"/>
          <a:stretch/>
        </p:blipFill>
        <p:spPr>
          <a:xfrm>
            <a:off x="380880" y="2666880"/>
            <a:ext cx="3505320" cy="3797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114800" y="266688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Na reacts with Cl, the Na loses an electron to become Na+ and Cl gains the electron to become C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04920" y="6135840"/>
            <a:ext cx="1066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971800" y="6135840"/>
            <a:ext cx="838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410080" y="518148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lent Bo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alent Bo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________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169920" y="3424320"/>
            <a:ext cx="4024080" cy="2322360"/>
            <a:chOff x="169920" y="3424320"/>
            <a:chExt cx="4024080" cy="2322360"/>
          </a:xfrm>
        </p:grpSpPr>
        <p:pic>
          <p:nvPicPr>
            <p:cNvPr id="72" name="Picture 8" descr="02_10a"/>
            <p:cNvPicPr/>
            <p:nvPr/>
          </p:nvPicPr>
          <p:blipFill>
            <a:blip r:embed="rId1"/>
            <a:srcRect l="3378" t="7504" r="5622" b="22504"/>
            <a:stretch/>
          </p:blipFill>
          <p:spPr>
            <a:xfrm>
              <a:off x="169920" y="3424320"/>
              <a:ext cx="402408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9"/>
            <p:cNvSpPr/>
            <p:nvPr/>
          </p:nvSpPr>
          <p:spPr>
            <a:xfrm>
              <a:off x="2153160" y="406404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2153160" y="499104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Rectangle 11"/>
          <p:cNvSpPr/>
          <p:nvPr/>
        </p:nvSpPr>
        <p:spPr>
          <a:xfrm>
            <a:off x="843840" y="5834160"/>
            <a:ext cx="3156840" cy="6933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hydrogen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819800" y="3048120"/>
            <a:ext cx="932040" cy="426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 —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644160" y="5943600"/>
            <a:ext cx="2170800" cy="6933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Group 28"/>
          <p:cNvGrpSpPr/>
          <p:nvPr/>
        </p:nvGrpSpPr>
        <p:grpSpPr>
          <a:xfrm>
            <a:off x="5087880" y="2895480"/>
            <a:ext cx="3777840" cy="3544920"/>
            <a:chOff x="5087880" y="2895480"/>
            <a:chExt cx="3777840" cy="3544920"/>
          </a:xfrm>
        </p:grpSpPr>
        <p:pic>
          <p:nvPicPr>
            <p:cNvPr id="79" name="Picture 14" descr="02_12a"/>
            <p:cNvPicPr/>
            <p:nvPr/>
          </p:nvPicPr>
          <p:blipFill>
            <a:blip r:embed="rId2"/>
            <a:srcRect l="22500" t="0" r="20250" b="22504"/>
            <a:stretch/>
          </p:blipFill>
          <p:spPr>
            <a:xfrm>
              <a:off x="5087880" y="2895480"/>
              <a:ext cx="3492720" cy="35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6"/>
            <p:cNvSpPr/>
            <p:nvPr/>
          </p:nvSpPr>
          <p:spPr>
            <a:xfrm>
              <a:off x="5870880" y="341784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7"/>
            <p:cNvSpPr/>
            <p:nvPr/>
          </p:nvSpPr>
          <p:spPr>
            <a:xfrm>
              <a:off x="5870880" y="553536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8151840" y="45324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xyg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27"/>
          <p:cNvGrpSpPr/>
          <p:nvPr/>
        </p:nvGrpSpPr>
        <p:grpSpPr>
          <a:xfrm>
            <a:off x="8001000" y="2286000"/>
            <a:ext cx="934920" cy="1316160"/>
            <a:chOff x="8001000" y="2286000"/>
            <a:chExt cx="934920" cy="1316160"/>
          </a:xfrm>
        </p:grpSpPr>
        <p:sp>
          <p:nvSpPr>
            <p:cNvPr id="84" name="Rectangle 26"/>
            <p:cNvSpPr/>
            <p:nvPr/>
          </p:nvSpPr>
          <p:spPr>
            <a:xfrm>
              <a:off x="8001000" y="2286000"/>
              <a:ext cx="934920" cy="13161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25"/>
            <p:cNvGrpSpPr/>
            <p:nvPr/>
          </p:nvGrpSpPr>
          <p:grpSpPr>
            <a:xfrm>
              <a:off x="8138880" y="2386080"/>
              <a:ext cx="705960" cy="1088640"/>
              <a:chOff x="8138880" y="2386080"/>
              <a:chExt cx="705960" cy="1088640"/>
            </a:xfrm>
          </p:grpSpPr>
          <p:sp>
            <p:nvSpPr>
              <p:cNvPr id="86" name="Rectangle 20"/>
              <p:cNvSpPr/>
              <p:nvPr/>
            </p:nvSpPr>
            <p:spPr>
              <a:xfrm>
                <a:off x="8138880" y="2386080"/>
                <a:ext cx="22464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21"/>
              <p:cNvSpPr/>
              <p:nvPr/>
            </p:nvSpPr>
            <p:spPr>
              <a:xfrm>
                <a:off x="8138880" y="3047760"/>
                <a:ext cx="22464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22"/>
              <p:cNvSpPr/>
              <p:nvPr/>
            </p:nvSpPr>
            <p:spPr>
              <a:xfrm>
                <a:off x="8603280" y="2717640"/>
                <a:ext cx="241560" cy="42696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23"/>
              <p:cNvSpPr/>
              <p:nvPr/>
            </p:nvSpPr>
            <p:spPr>
              <a:xfrm>
                <a:off x="8403840" y="2571480"/>
                <a:ext cx="192960" cy="210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4"/>
              <p:cNvSpPr/>
              <p:nvPr/>
            </p:nvSpPr>
            <p:spPr>
              <a:xfrm flipV="1">
                <a:off x="8414640" y="3039480"/>
                <a:ext cx="199800" cy="239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olar vs. nonpolar covalent bond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________________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4572000" y="1752480"/>
            <a:ext cx="4490640" cy="5105160"/>
            <a:chOff x="4572000" y="1752480"/>
            <a:chExt cx="4490640" cy="5105160"/>
          </a:xfrm>
        </p:grpSpPr>
        <p:pic>
          <p:nvPicPr>
            <p:cNvPr id="95" name="Picture 8" descr="02_12a"/>
            <p:cNvPicPr/>
            <p:nvPr/>
          </p:nvPicPr>
          <p:blipFill>
            <a:blip r:embed="rId1"/>
            <a:srcRect l="22500" t="0" r="20250" b="22504"/>
            <a:stretch/>
          </p:blipFill>
          <p:spPr>
            <a:xfrm>
              <a:off x="4572000" y="1752480"/>
              <a:ext cx="449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0"/>
            <p:cNvSpPr/>
            <p:nvPr/>
          </p:nvSpPr>
          <p:spPr>
            <a:xfrm>
              <a:off x="5610600" y="250452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5610600" y="5554080"/>
              <a:ext cx="2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7705800" y="4109400"/>
              <a:ext cx="1271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Oxyge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Rectangle 14"/>
          <p:cNvSpPr/>
          <p:nvPr/>
        </p:nvSpPr>
        <p:spPr>
          <a:xfrm>
            <a:off x="4575960" y="165456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541040" y="462636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8537760" y="241668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537760" y="518544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93240" y="190872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6520" y="5490000"/>
            <a:ext cx="41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0" y="1828800"/>
            <a:ext cx="4266720" cy="3657240"/>
            <a:chOff x="0" y="1828800"/>
            <a:chExt cx="4266720" cy="3657240"/>
          </a:xfrm>
        </p:grpSpPr>
        <p:pic>
          <p:nvPicPr>
            <p:cNvPr id="106" name="Picture 8" descr="02_10a"/>
            <p:cNvPicPr/>
            <p:nvPr/>
          </p:nvPicPr>
          <p:blipFill>
            <a:blip r:embed="rId2"/>
            <a:srcRect l="3378" t="7504" r="5622" b="22504"/>
            <a:stretch/>
          </p:blipFill>
          <p:spPr>
            <a:xfrm>
              <a:off x="0" y="1828800"/>
              <a:ext cx="426672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9"/>
            <p:cNvSpPr/>
            <p:nvPr/>
          </p:nvSpPr>
          <p:spPr>
            <a:xfrm>
              <a:off x="2106720" y="28360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106720" y="42958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TextBox 19"/>
          <p:cNvSpPr/>
          <p:nvPr/>
        </p:nvSpPr>
        <p:spPr>
          <a:xfrm>
            <a:off x="0" y="57913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#1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ultiple covalent bo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68580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 atoms can share &gt; 1 pair of electr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uble bonds (2 pairs electro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ple bonds (3 pairs electro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#3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Content Placeholder 4" descr="Multiple Covalent Bonding.wmf"/>
          <p:cNvPicPr/>
          <p:nvPr/>
        </p:nvPicPr>
        <p:blipFill>
          <a:blip r:embed="rId1"/>
          <a:stretch/>
        </p:blipFill>
        <p:spPr>
          <a:xfrm>
            <a:off x="5514840" y="762120"/>
            <a:ext cx="3629160" cy="5257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4495680" y="5029200"/>
            <a:ext cx="116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–C–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 rot="16038600">
            <a:off x="4578120" y="459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16038600">
            <a:off x="4640040" y="5276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80060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76920" y="5648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2:38:50Z</dcterms:created>
  <dc:creator>Jonathan</dc:creator>
  <dc:description/>
  <dc:language>en-US</dc:language>
  <cp:lastModifiedBy>Jonathan</cp:lastModifiedBy>
  <dcterms:modified xsi:type="dcterms:W3CDTF">2011-09-07T02:35:24Z</dcterms:modified>
  <cp:revision>71</cp:revision>
  <dc:subject/>
  <dc:title>The Chemical Basis of Life</dc:title>
</cp:coreProperties>
</file>